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78456-55F2-4C99-AE44-EAFC70685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024FF-60E1-4D6F-95F7-7BF579E66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F7289-75F4-4760-B7F8-84E1D4E3E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3A6E5-AE65-4C18-9EC2-FE238FF81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61418-722F-48C6-87A0-539210D61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8DAB4-C846-4F8C-98BA-D34FBEC12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DAEFC-35F8-495B-8483-4D7CC0D8B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182A2-69B7-4E4C-8587-3F179515C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6E204-2EC9-4549-8A7F-59B95E7AF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111DE-460A-4A18-9A10-7BD484F6D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1A1FB-C9B9-4D7C-AD7B-A3E0699B6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6E59A-B6F4-49AB-9B95-1658F6008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3D751-BB31-4D53-A4A4-304F8DF05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F0F39-4B1C-4E17-9488-103C11C87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0B501-5229-4D3E-A4D3-71C10121C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D594A-6D44-4C66-B7EC-0A5E568B9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18A9E-3E35-42D5-B3E3-05B4B7825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8892BFB-CFDC-4B2A-AB64-0E1045EF8A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46A2829-7C97-4640-9C66-8F7443E189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4452C8-D85E-4594-807E-5FD278F5B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F8CD5F9-4B94-44EC-BB52-8C909F9EEE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2310FC7-2CA6-4DE6-B040-664D88852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95794-4D48-4335-9E7A-DF408C6A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55127B-C6ED-4842-A9B2-673693B07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879F61-3D02-4F78-8AEA-F49CFDABC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C74A0A-B537-42C8-9603-52ED7FC8A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DE7D30-732F-4C32-AA50-D0C7089AF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AEA401-E689-4E39-A49B-32A1C9D75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8EC3CBA-D196-42C8-997D-CE00AB934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D973817-4534-4560-92E6-6058E77079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504303-6421-4D05-9EA0-BA8CE88563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BF8FD-1200-421C-AB60-34E2966BB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BAE3B-6A13-4468-8779-F94B763C0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C34F2-4CD5-4C7C-81D6-CF528FE10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2A8EAD-B08B-45F2-A442-2559DD3D6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69559-BEB2-43EF-8CFB-CEF44137F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BAEC5-43FE-4488-95B0-17580720B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EC855-962D-45E2-936B-9E6E9EEE7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5E698-46FA-4635-ABF7-968706DFA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DC985-AD8A-400F-BD27-AD3D79AD2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574D3-47E4-465B-AF73-4CFDEE8AD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E86538-F8B8-466D-BAA5-DCF671FAD0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326E22-8C86-4C98-8B29-721A5D4403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BCAF2E-AF11-4782-AAC6-C5E2411835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1585-6AF0-43F3-943D-6AFADE498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5EABB7-FBAC-417D-98F3-890861B62D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AB4090-ABA0-4944-9A63-D09596711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E58D56-2218-441A-9291-83A7869DE3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A1D153-B632-4064-A0F5-517DE5AA2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A74E4E-4720-4A7F-8A33-E4C8DDCEA6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2839A9-FB38-49BC-874A-0A032E72C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8FCDAD-B050-4FB4-9449-E037541896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EF263CE-700C-414B-B17F-FB92D9880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A3F9E4-F6E3-4F72-84E1-747291373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3EE7031-AC0B-43EF-BF5C-FA02E28331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BFA04-3433-498C-93A3-FB8D84083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5B900E-30D2-4050-A605-9EAD35B176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40CE17B-B186-46A0-8303-37678D986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AD85A65-A9FC-40EB-89AE-4012C66196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CE0AD90-4624-4894-A813-7CACB9E37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B370EE6-C5F9-4EFE-83E7-5F61D5B86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7A1F8A7-E46A-4775-89EB-ABA179D41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9687A6C-82AA-4B12-8135-111E0DAEF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C17683D-E830-42D1-BB2E-32C0A93EE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0CE811-DDA4-450A-BA21-092EACCA9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83A4F8-EFB9-44FD-8609-0745B9B7F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B6878-28CA-44ED-8527-2D9404EB8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FF5BF0B-FFAF-45D8-84FC-86D1695AA9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5AE05BE-030E-4042-BE30-5D2A189190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20D03FF-E12A-45E0-A4D3-3726692DB2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549FFEF-69B8-4B90-BE1B-9D06678BA6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1783DC0-207E-4846-968E-B2404A7CAB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2C492BB-08F9-4E5F-A064-B1F3711471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76E388-D286-4120-854A-95A13F6326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9B5C9C-79A5-4FEF-856D-C7F7924896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5F574AA-710C-4D69-BE8E-545575EC1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F77329D-2AD4-497E-8FB0-BC7C00C50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FBF1-74EF-4F1B-A79E-ECB772711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04A0F8-0FBC-4891-89D3-D197CB1FA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7493A6-2A48-49B9-B7B5-270058453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62BA6B4-5B2D-45FB-A3B9-D1F1C33088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D8208C8-E7D5-4729-8E39-630685D3EE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E88B0D3-F516-4C68-8B58-41BCCCB148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1CFE-04F6-497A-8110-AB551762A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BE72E-5DEF-44A3-AF3D-1666F8ADFE9D}"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BBC16-872C-4BFD-8836-2ECBCFC609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52CA0-42D8-43B2-9E88-FDCFBF28F31B}"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0F842-F78C-4357-BBE2-4B49A7A4EF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FEFA5-64EB-42AA-8BC2-85444239AD46}"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C7044-7C6C-483E-B397-DB906FA7DA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F9DBD-E0A2-4BE2-9472-7A0E2B7F88DD}" type="datetime">
              <a:rPr b="0" lang="en-US" sz="1200" spc="-1" strike="noStrike">
                <a:solidFill>
                  <a:srgbClr val="fff39d"/>
                </a:solidFill>
                <a:latin typeface="Times New Roman"/>
              </a:rPr>
              <a:t>07/29/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FF065-FF44-4F87-90AB-E48137E66D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29352-8816-48C6-9360-61A23C059167}"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35D31-D7F7-48BE-ACF6-8E6797C130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18296-6CF7-4E2B-9A00-9FBF9DD33EC1}"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BAD13-E97E-4EE1-B498-D7556AFF875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8395FD-5F50-4350-9535-68F1E87FCFF0}" type="datetime">
              <a:rPr b="0" lang="en-US" sz="1200" spc="-1" strike="noStrike">
                <a:solidFill>
                  <a:srgbClr val="575f6d"/>
                </a:solidFill>
                <a:latin typeface="Times New Roman"/>
              </a:rPr>
              <a:t>07/29/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5F2F3-B0E6-45A8-A75E-05FD6568A5E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blogs.ubc.ca/polarisdotca/astrolabs/extrasolar-planets/" TargetMode="External"/><Relationship Id="rId2" Type="http://schemas.openxmlformats.org/officeDocument/2006/relationships/hyperlink" Target="http://rickrutland.wikispaces.com/" TargetMode="External"/><Relationship Id="rId3" Type="http://schemas.openxmlformats.org/officeDocument/2006/relationships/hyperlink" Target="http://www.vernier.com/experiments/"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9880" y="132048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5f6d"/>
                </a:solidFill>
                <a:latin typeface="Century Schoolbook"/>
              </a:rPr>
              <a:t>WHAT’S OUT THERE?</a:t>
            </a:r>
            <a:endParaRPr b="0" lang="en-US" sz="5400" spc="-1" strike="noStrike">
              <a:solidFill>
                <a:srgbClr val="575f6d"/>
              </a:solidFill>
              <a:latin typeface="Century Schoolbook"/>
            </a:endParaRPr>
          </a:p>
        </p:txBody>
      </p:sp>
      <p:sp>
        <p:nvSpPr>
          <p:cNvPr id="352" name="PlaceHolder 2"/>
          <p:cNvSpPr>
            <a:spLocks noGrp="1"/>
          </p:cNvSpPr>
          <p:nvPr>
            <p:ph type="subTitle"/>
          </p:nvPr>
        </p:nvSpPr>
        <p:spPr>
          <a:xfrm>
            <a:off x="1371600" y="3452760"/>
            <a:ext cx="640080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575f6d"/>
                </a:solidFill>
                <a:latin typeface="Century Schoolbook"/>
              </a:rPr>
              <a:t>Detecting Extrasolar Planets</a:t>
            </a:r>
            <a:endParaRPr b="0" lang="en-US" sz="31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                      </a:t>
            </a:r>
            <a:r>
              <a:rPr b="1" lang="en-US" sz="2400" spc="-1" strike="noStrike">
                <a:solidFill>
                  <a:srgbClr val="575f6d"/>
                </a:solidFill>
                <a:latin typeface="Century Schoolbook"/>
              </a:rPr>
              <a:t>Rick Rutlan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36520"/>
            <a:ext cx="7467480" cy="690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IZE OF THE PLANET CAN BE ESTIMATED</a:t>
            </a:r>
            <a:endParaRPr b="0" lang="en-US" sz="3000" spc="-1" strike="noStrike">
              <a:solidFill>
                <a:srgbClr val="575f6d"/>
              </a:solidFill>
              <a:latin typeface="Century Schoolbook"/>
            </a:endParaRPr>
          </a:p>
        </p:txBody>
      </p:sp>
      <p:sp>
        <p:nvSpPr>
          <p:cNvPr id="375" name=""/>
          <p:cNvSpPr txBox="1"/>
          <p:nvPr/>
        </p:nvSpPr>
        <p:spPr>
          <a:xfrm>
            <a:off x="456840" y="102384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6" name="Picture 3" descr=""/>
          <p:cNvPicPr/>
          <p:nvPr/>
        </p:nvPicPr>
        <p:blipFill>
          <a:blip r:embed="rId1"/>
          <a:stretch/>
        </p:blipFill>
        <p:spPr>
          <a:xfrm>
            <a:off x="3606840" y="1270080"/>
            <a:ext cx="1900080" cy="2203200"/>
          </a:xfrm>
          <a:prstGeom prst="rect">
            <a:avLst/>
          </a:prstGeom>
          <a:ln w="0">
            <a:noFill/>
          </a:ln>
        </p:spPr>
      </p:pic>
      <p:pic>
        <p:nvPicPr>
          <p:cNvPr id="377" name="Picture 4" descr=""/>
          <p:cNvPicPr/>
          <p:nvPr/>
        </p:nvPicPr>
        <p:blipFill>
          <a:blip r:embed="rId2"/>
          <a:stretch/>
        </p:blipFill>
        <p:spPr>
          <a:xfrm>
            <a:off x="271440" y="3848040"/>
            <a:ext cx="8397720" cy="15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659880"/>
            <a:ext cx="8229600" cy="54658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The first transiting extrasolar planet was found orbiting a star named HD 209458 in the Pegasus constellation (150 light years away). The data was collected by the MOST space telescope. HD 209458 is about the same size as our sun, with a diameter of 1,400,000 km.</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OURCES</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1"/>
              </a:rPr>
              <a:t>http://blogs.ubc.ca/polarisdotca/astrolabs/extrasolar-plane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presentation available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2"/>
              </a:rPr>
              <a:t>http://rickrutland.wikispaces.co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ernier handouts available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Century Schoolbook"/>
                <a:hlinkClick r:id="rId3"/>
              </a:rPr>
              <a:t>http://www.vernier.com/experim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txBox="1"/>
          <p:nvPr/>
        </p:nvSpPr>
        <p:spPr>
          <a:xfrm>
            <a:off x="457200" y="667800"/>
            <a:ext cx="8229600" cy="45262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One way of detecting extrasolar planets is called the transit method. </a:t>
            </a:r>
            <a:endParaRPr b="0" lang="en-US" sz="3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A transit is when the planet passes in front of the star. How do you think this might work? What would it look like?</a:t>
            </a:r>
            <a:endParaRPr b="0" lang="en-US" sz="3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Schoolbook"/>
              </a:rPr>
              <a:t>Draw a sketch of your prediction.</a:t>
            </a:r>
            <a:endParaRPr b="0" lang="en-US" sz="3400" spc="-1" strike="noStrike">
              <a:solidFill>
                <a:srgbClr val="000000"/>
              </a:solidFill>
              <a:latin typeface="Century Schoolbook"/>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S THIS WHAT YOU THOUGHT?</a:t>
            </a:r>
            <a:endParaRPr b="0" lang="en-US" sz="3000" spc="-1" strike="noStrike">
              <a:solidFill>
                <a:srgbClr val="575f6d"/>
              </a:solidFill>
              <a:latin typeface="Century Schoolbook"/>
            </a:endParaRPr>
          </a:p>
        </p:txBody>
      </p:sp>
      <p:pic>
        <p:nvPicPr>
          <p:cNvPr id="355" name="Content Placeholder 3" descr="Transit-1024x762.jpg"/>
          <p:cNvPicPr/>
          <p:nvPr/>
        </p:nvPicPr>
        <p:blipFill>
          <a:blip r:embed="rId1"/>
          <a:srcRect l="-7005" t="0" r="-7005" b="0"/>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457200" y="888480"/>
            <a:ext cx="8229600" cy="4526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In reality, the stars are usually so far away that scientists do not ever see the actual star.</a:t>
            </a:r>
            <a:endParaRPr b="0" lang="en-US" sz="37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Schoolbook"/>
              </a:rPr>
              <a:t>They use instruments to take measurements of the star. Indirect evidence is used to locate planets.</a:t>
            </a: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575f6d"/>
                </a:solidFill>
                <a:latin typeface="Century Schoolbook"/>
              </a:rPr>
              <a:t>SCIENTISTS LOOK AT THE CHANGE IN BRIGHTNESS OF THE STAR AS A PLANET PASSES IN FRONT.</a:t>
            </a:r>
            <a:endParaRPr b="0" lang="en-US" sz="2700" spc="-1" strike="noStrike">
              <a:solidFill>
                <a:srgbClr val="575f6d"/>
              </a:solidFill>
              <a:latin typeface="Century Schoolbook"/>
            </a:endParaRPr>
          </a:p>
        </p:txBody>
      </p:sp>
      <p:pic>
        <p:nvPicPr>
          <p:cNvPr id="358" name="Content Placeholder 3" descr="20130108_Planetary_transit_f840.jpg"/>
          <p:cNvPicPr/>
          <p:nvPr/>
        </p:nvPicPr>
        <p:blipFill>
          <a:blip r:embed="rId1"/>
          <a:srcRect l="0" t="-4668" r="0" b="-4668"/>
          <a:stretch/>
        </p:blipFill>
        <p:spPr>
          <a:xfrm>
            <a:off x="457200" y="1600200"/>
            <a:ext cx="7467480" cy="487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81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WO FACTORS CAN GIVE US A GOOD APPROXIMATION… </a:t>
            </a:r>
            <a:br>
              <a:rPr sz="3000"/>
            </a:br>
            <a:r>
              <a:rPr b="0" lang="en-US" sz="3000" spc="-1" strike="noStrike">
                <a:solidFill>
                  <a:srgbClr val="575f6d"/>
                </a:solidFill>
                <a:latin typeface="Century Schoolbook"/>
              </a:rPr>
              <a:t>THE SCIENCE IS COMPLEX </a:t>
            </a:r>
            <a:endParaRPr b="0" lang="en-US" sz="3000" spc="-1" strike="noStrike">
              <a:solidFill>
                <a:srgbClr val="575f6d"/>
              </a:solidFill>
              <a:latin typeface="Century Schoolbook"/>
            </a:endParaRPr>
          </a:p>
        </p:txBody>
      </p:sp>
      <p:sp>
        <p:nvSpPr>
          <p:cNvPr id="360" name=""/>
          <p:cNvSpPr txBox="1"/>
          <p:nvPr/>
        </p:nvSpPr>
        <p:spPr>
          <a:xfrm>
            <a:off x="457200" y="2604960"/>
            <a:ext cx="8229600" cy="3438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iameter of the planet compared to the diameter of the sta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orbital period of the planet (how long it takes to orbit the sta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PARE THE DATA FOR THE TWO PLANETS. WHAT MIGHT CAUSE THIS?</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3" name="Picture 3" descr=""/>
          <p:cNvPicPr/>
          <p:nvPr/>
        </p:nvPicPr>
        <p:blipFill>
          <a:blip r:embed="rId1"/>
          <a:stretch/>
        </p:blipFill>
        <p:spPr>
          <a:xfrm>
            <a:off x="1847880" y="2165400"/>
            <a:ext cx="5321160" cy="1847880"/>
          </a:xfrm>
          <a:prstGeom prst="rect">
            <a:avLst/>
          </a:prstGeom>
          <a:ln w="0">
            <a:noFill/>
          </a:ln>
        </p:spPr>
      </p:pic>
      <p:pic>
        <p:nvPicPr>
          <p:cNvPr id="364" name="Picture 4" descr=""/>
          <p:cNvPicPr/>
          <p:nvPr/>
        </p:nvPicPr>
        <p:blipFill>
          <a:blip r:embed="rId2"/>
          <a:stretch/>
        </p:blipFill>
        <p:spPr>
          <a:xfrm>
            <a:off x="1973160" y="4013280"/>
            <a:ext cx="507996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OMPARE THE DATA FOR THE TWO PLANETS. WHAT MIGHT CAUSE THIS?</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7" name="Picture 3" descr=""/>
          <p:cNvPicPr/>
          <p:nvPr/>
        </p:nvPicPr>
        <p:blipFill>
          <a:blip r:embed="rId1"/>
          <a:stretch/>
        </p:blipFill>
        <p:spPr>
          <a:xfrm>
            <a:off x="1866960" y="2011320"/>
            <a:ext cx="5210280" cy="1946160"/>
          </a:xfrm>
          <a:prstGeom prst="rect">
            <a:avLst/>
          </a:prstGeom>
          <a:ln w="0">
            <a:noFill/>
          </a:ln>
        </p:spPr>
      </p:pic>
      <p:pic>
        <p:nvPicPr>
          <p:cNvPr id="368" name="Picture 4" descr=""/>
          <p:cNvPicPr/>
          <p:nvPr/>
        </p:nvPicPr>
        <p:blipFill>
          <a:blip r:embed="rId2"/>
          <a:stretch/>
        </p:blipFill>
        <p:spPr>
          <a:xfrm>
            <a:off x="1884240" y="4041720"/>
            <a:ext cx="5181840" cy="19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IS STAR HAS TWO TRANSITING EXTRASOLAR PLANETS. </a:t>
            </a:r>
            <a:endParaRPr b="0" lang="en-US" sz="30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3" descr=""/>
          <p:cNvPicPr/>
          <p:nvPr/>
        </p:nvPicPr>
        <p:blipFill>
          <a:blip r:embed="rId1"/>
          <a:stretch/>
        </p:blipFill>
        <p:spPr>
          <a:xfrm>
            <a:off x="246240" y="1417680"/>
            <a:ext cx="5014800" cy="2651040"/>
          </a:xfrm>
          <a:prstGeom prst="rect">
            <a:avLst/>
          </a:prstGeom>
          <a:ln w="0">
            <a:noFill/>
          </a:ln>
        </p:spPr>
      </p:pic>
      <p:pic>
        <p:nvPicPr>
          <p:cNvPr id="372" name="Picture 4" descr=""/>
          <p:cNvPicPr/>
          <p:nvPr/>
        </p:nvPicPr>
        <p:blipFill>
          <a:blip r:embed="rId2"/>
          <a:stretch/>
        </p:blipFill>
        <p:spPr>
          <a:xfrm>
            <a:off x="4294080" y="3751200"/>
            <a:ext cx="4608720" cy="2595600"/>
          </a:xfrm>
          <a:prstGeom prst="rect">
            <a:avLst/>
          </a:prstGeom>
          <a:ln w="0">
            <a:noFill/>
          </a:ln>
        </p:spPr>
      </p:pic>
      <p:sp>
        <p:nvSpPr>
          <p:cNvPr id="373" name="TextBox 5"/>
          <p:cNvSpPr/>
          <p:nvPr/>
        </p:nvSpPr>
        <p:spPr>
          <a:xfrm>
            <a:off x="990720" y="4689360"/>
            <a:ext cx="28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hich choice fits each pla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6T03:06:21Z</dcterms:created>
  <dc:creator>Rick Rutland</dc:creator>
  <dc:description/>
  <dc:language>en-US</dc:language>
  <cp:lastModifiedBy>Rick Rutland</cp:lastModifiedBy>
  <dcterms:modified xsi:type="dcterms:W3CDTF">2016-02-26T18:02:12Z</dcterms:modified>
  <cp:revision>29</cp:revision>
  <dc:subject/>
  <dc:title>What’s Out There?</dc:title>
</cp:coreProperties>
</file>